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05228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0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линичка фармациј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85264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ЦИОНАЛНА 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АРМАКОТЕРАПИЈЕ КОД ПОРЕМЕЋАЈА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АСТРОИНТЕСТИНАЛНОМ ТРАК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пре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47640" y="4976640"/>
            <a:ext cx="651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тњи семестар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2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а примена антием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413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b050"/>
                </a:solidFill>
                <a:latin typeface="Comic Sans MS"/>
              </a:rPr>
              <a:t>Блокатори хистаминских </a:t>
            </a:r>
            <a:r>
              <a:rPr b="0" lang="en-US" sz="1600" spc="-1" strike="noStrike">
                <a:solidFill>
                  <a:srgbClr val="00b050"/>
                </a:solidFill>
                <a:latin typeface="Comic Sans MS"/>
              </a:rPr>
              <a:t>H1 </a:t>
            </a:r>
            <a:r>
              <a:rPr b="0" lang="sr-RS" sz="1600" spc="-1" strike="noStrike">
                <a:solidFill>
                  <a:srgbClr val="00b050"/>
                </a:solidFill>
                <a:latin typeface="Comic Sans MS"/>
              </a:rPr>
              <a:t>рецепто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Циклизин: кинетоз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Цинаризин: кинетозе, оштећења вестибуларног апарата (нпр Мение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болес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Прометазин: тежи облик јутарње мучнине током трудноће (али само ако је неопход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sr-RS" sz="1600" spc="-1" strike="noStrike">
                <a:solidFill>
                  <a:srgbClr val="00b050"/>
                </a:solidFill>
                <a:latin typeface="Comic Sans MS"/>
              </a:rPr>
              <a:t>Блокатори мускаринских рецепто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Скополамин: кинето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sr-RS" sz="1600" spc="-1" strike="noStrike">
                <a:solidFill>
                  <a:srgbClr val="00b050"/>
                </a:solidFill>
                <a:latin typeface="Comic Sans MS"/>
              </a:rPr>
              <a:t>Блокатори допаминских Д2 рецепто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Фенотиазини (нпр прохлорперазин): повраћање код уремије, зрачењ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вирусног гастроентеритиса; тежак облик јутарње мучнине у трудноћи (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само ако је неопходн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Метоклопрамид: повраћање код уремије, зрачења, гастроинтестинал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обољења, примене цитостат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sr-RS" sz="1600" spc="-1" strike="noStrike">
                <a:solidFill>
                  <a:srgbClr val="00b050"/>
                </a:solidFill>
                <a:latin typeface="Comic Sans MS"/>
              </a:rPr>
              <a:t>Блокатори 5</a:t>
            </a:r>
            <a:r>
              <a:rPr b="0" lang="en-US" sz="1600" spc="-1" strike="noStrike">
                <a:solidFill>
                  <a:srgbClr val="00b050"/>
                </a:solidFill>
                <a:latin typeface="Comic Sans MS"/>
              </a:rPr>
              <a:t>H</a:t>
            </a:r>
            <a:r>
              <a:rPr b="0" lang="sr-RS" sz="1600" spc="-1" strike="noStrike">
                <a:solidFill>
                  <a:srgbClr val="00b050"/>
                </a:solidFill>
                <a:latin typeface="Comic Sans MS"/>
              </a:rPr>
              <a:t>Т рецептора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(нпр ондасетрон): повраћање изазва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цитостатицима у лечењу карцинома, постоперативно повраћање, повраћање изазвано зрачењ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sr-RS" sz="1600" spc="-1" strike="noStrike">
                <a:solidFill>
                  <a:srgbClr val="00b050"/>
                </a:solidFill>
                <a:latin typeface="Comic Sans MS"/>
              </a:rPr>
              <a:t>Канабиноиди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(нпр набилон) за сузбијање повраћања изазван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цитостатиц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а примена супстанци које утичу на мотилитет ГИТ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92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Пургативи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Лаксанси који повећавају волумен цревног садржаја, нпр љ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испагуле (лек првог избора за споро деловањ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Осмотски лаксанси, нпр лактуло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Омекшивачи столице, нпр натријум-докуз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Надражајни пургативи, нпр 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Лекови који повећавају мотилитет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, а не изазивају дефекациј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Домперидон, користи се код поремећаја пражњења желу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За терапију дијареје користе 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Орална рехидратација изотоничним раствором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NaCl +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глу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или житарице богате скробом (важно код одојчад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Лекови који смањују мотилитет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, нпр лоперамид (нежељ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дејства: поспаност, мучнин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Адсорбенси, нпр магнезијум алуминијум-сили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и у третману пептичке болести смањењем ацид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2066760"/>
          <a:ext cx="8569080" cy="479124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аци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ни ефе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ијум карбон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зо дело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ује угљен диоксид, надутост, повећан унос доводи до метаболичке алкалозе, опрез код реналних и КВС поремећа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 карбон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 ефикасност неуралисања ацидит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`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bound 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`ефекат, повећан унос доводи до хиперкалцемије и констип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 магнезијума (трихидроксид, карбонат, трисиликат ит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а растворљивост, слаба ефиксаност, трисиликати инактивирају пепсин,  повећавају тонус доњег езофагеалног сфинктера, могу се употрети код рефлук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минијум хидрокс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а нерастворљив колоид у присуству киселине, формира физичку и хемијску баријеру, слаб антацид, споро наступа деловање, инактивира пеп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ипација, апсорпцијом фосфата може довести до губитка калцијума и негативног баланса калцију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и у третману пептичке болести смањењем ацид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468360" y="2060640"/>
            <a:ext cx="7991280" cy="45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H</a:t>
            </a:r>
            <a:r>
              <a:rPr b="0" lang="sr-RS" sz="2400" spc="-1" strike="noStrike" baseline="-25000">
                <a:solidFill>
                  <a:srgbClr val="00b050"/>
                </a:solidFill>
                <a:latin typeface="Comic Sans MS"/>
              </a:rPr>
              <a:t>2</a:t>
            </a: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 антагонисти</a:t>
            </a: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анитидин, циметидин, фамотидин, низат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Ефикасно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упају у интеракције са другим лековима (циметидин: итраконалзол, кетоконазол, варфарин, карбамазепин, метформин, прокаинамид, фетион и др.; ранитидин: низак афинитет за цитохр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450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и у третману пептичке болести смањењем ацид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468360" y="2060640"/>
            <a:ext cx="799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Инхибитори протонске пум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мепразол, есомепразол, лансопразол, пантопразол, рабепр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Ефикасно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упају у интеракције са другим лековима (пантопразол: не ступа у интеракције; омепразол: инхибира цитохр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450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; лансопразол: слаб индуктор цитохро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450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и који повећавају отпорност слузнице желу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468360" y="2060640"/>
            <a:ext cx="799128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Аналози простаглан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Мисопростол (синтетски аналог простагландина Е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), узрокује вазодилатацију у субмукози и стимулише производњу заштитног му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зно зависна нежељена дејства, дијареја, абдоминални бол, абнормално вагинално крварење, осип на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Хелат бизм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е употребљавати истовремено са млечним производима и антаци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Сукралф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през због присуства алуминију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ретман рефлуксне езофагеал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892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Рефлуксна болест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е каракерише горушицом, регургитацијом и предиспозицијом за настајање стри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Промена начина живота: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авање са подигнутом главом, забрањено конзумирање обилних оброка, алкохола, цигарета, кафе, аспирина и НСАИЛ, хране непосредно пре спавања; редукција телесне тежине, умерена физич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Фармаколошки третман: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метоклопрамид, микстура алгината и антацида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антагонисти, Инхибитори протонске пум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а примена антием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Избор антиеметика зависи од етиологије повраћањ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Етиолошка и симптоматска терапија повраћањ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нтихолинергици (хиос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нтихистаминици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антагонисти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ометаз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нтагонисти допамина (метоклопра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Фенотиазини (прохлорпераз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нтагонисти 5Н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рецептора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ндансетрон, гранисетрон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нтагонисти неурокинина (апрепит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анабиноиди (набил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руги антиеметици (глукокортикостероиди, бензодиазеп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и у третману инфламаторне болести ц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892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лцерозни колитис и Кронов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рекција дехидратације, нутритивне и електролитне не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Фармаколошки третм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Кортикостероиди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(преднизолон, хидрокортиз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Аминосалицилати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(5-аминосалицилна киселина (5-АСА), сулфасалазин, месалазин, балсалазид, олсалазин. НД: крвне дискра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Имуносупресиви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(циклоспорин, меркаптопурин, инфликсимаб, азатиоп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Други лекови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(метронидазол, лоперамид, холестир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кови који узрокују констип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луминијум хидрокс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мјода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нтихолинергици (старији антихистаминиц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илтиаз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изопир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иуре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епарати гвожђ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пи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Трициклични антидепрес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Верапам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Функције ГИТ-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00" y="206064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игес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псорп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Мотил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екре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Екскре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аксат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892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Јасно утврђене контраиндикациј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b050"/>
                </a:solidFill>
                <a:latin typeface="Comic Sans MS"/>
              </a:rPr>
              <a:t>Биљн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b050"/>
                </a:solidFill>
                <a:latin typeface="Comic Sans MS"/>
              </a:rPr>
              <a:t>Осмотски аген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етилцел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Лакт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агнезијум сулф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Лубрикан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иоктил натријум сулфосукц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Уље кикирик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b050"/>
                </a:solidFill>
                <a:latin typeface="Comic Sans MS"/>
              </a:rPr>
              <a:t>Хемијски стимулан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Фенолфталеин (токсич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исакод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Глиц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нтидија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892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Лоперамид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(антагонизује ослобађање ацетилхолина у интрамуралном нервном плексу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 абдомену; забрањена употреба код де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Опиоиди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(кодеин, морфин ит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b050"/>
                </a:solidFill>
                <a:latin typeface="Comic Sans MS"/>
              </a:rPr>
              <a:t>Адсорбенси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(као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утничка дијареја (најчешћи узрочник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scherichia coli.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; промена колонизације цревне флоре; нема специфичан третман; симптоматска терапија и ципрофлоксацин може бити од помоћи у тежим случајев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268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Инервација ГИТ-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773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импатичка и парасимпатичка инерв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ва главна интрамурална плексуса у систему за варе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plexus mye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er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Comic Sans MS"/>
              </a:rPr>
              <a:t>plexus submuc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еурони у плексусима чине ентерички нервни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 луче : ацетилхолин, норадреналин, 5-хидрокситриптамин (5-ХТ), пурине, азотоксид (НО) 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велики број различитих фармаколошки активних пепт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8200" t="22461" r="23842" b="5960"/>
          <a:stretch/>
        </p:blipFill>
        <p:spPr>
          <a:xfrm>
            <a:off x="755640" y="1197000"/>
            <a:ext cx="7704000" cy="5124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042920" y="6524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лика 1. Механизам регулације лучења хлороводонич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Arial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азе лучења желудачног с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773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1.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Фаза - Цефаличка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Мирис, помисао на храну→активација парасимпатикуса →активација ентеричког н.система →ослобађање ацетил холина →лучење гастрина и хистамина (гастричне ћелије) →активирају рецепторе паријеталних ћелија → лучењ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+ активним транспорто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+/К+-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P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-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јо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-олакшаном дифузијом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азе лучења желудачног с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773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2.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Фаза – Гастричка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храна у желуцу→растезање зидова → секреција гастрина → секрециј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→ активација пепсиногена у пепсин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разлагање беланчевина на ПЕПТИДЕ → повећање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→ стимулација секрециј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азе лучења желудачног с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773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3. </a:t>
            </a:r>
            <a:r>
              <a:rPr b="0" lang="sr-RS" sz="2800" spc="-1" strike="noStrike">
                <a:solidFill>
                  <a:srgbClr val="00b050"/>
                </a:solidFill>
                <a:latin typeface="Comic Sans MS"/>
              </a:rPr>
              <a:t>Фаза – Интестинална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иселост, растезање зида танког црева, хипертоничност садржаја црева → активација рефлекса танког црева који ИНХИБИРА лучење желудачних соко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линичка примена супстанци које смањују ацидитет желудачног с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Блокатори хистаминских рецептора,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 нпр ранитид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ептички улкус; Рефлукс езофагити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Инхибитори протонске пумпе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, нпр омепразол, лансопразо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Пептички улкус; Рефлукс езофагити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ао један од лекова у комбинованој терапији инфекције иза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бактеријо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icobacter pylori;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ollinger-Ellisonov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Антациди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, нпр магнезијум-трисиликат, алуминијум-хидроксид, алгина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Диспепсија; Симптоматска терапија пептичког улкуса или (алгинати) рефлукс езофагит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b050"/>
                </a:solidFill>
                <a:latin typeface="Comic Sans MS"/>
              </a:rPr>
              <a:t>Хелат бизму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ао један од лекова у комбинованој терапији инфекције изаз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бактеријо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licobacter pyl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042920" y="6524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лика 2. Централни механизам акта повраћ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60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b050"/>
                </a:solidFill>
                <a:latin typeface="Arial"/>
              </a:rPr>
              <a:t>Рефлекс повраћ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2060640"/>
            <a:ext cx="4249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еуротрансмисија се обавља преко хистамина (делује на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ецептор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цетилхолина (делује на мускаринске рецепторе), допамина (делује на Д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ецепторе) и 5-хидрокситриптамина (делује на 5-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3 рецептор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24180" t="27618" r="45598" b="20315"/>
          <a:stretch/>
        </p:blipFill>
        <p:spPr>
          <a:xfrm>
            <a:off x="4211640" y="1197000"/>
            <a:ext cx="446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crosoft Office User</cp:lastModifiedBy>
  <dcterms:modified xsi:type="dcterms:W3CDTF">2023-02-06T11:55:25Z</dcterms:modified>
  <cp:revision>204</cp:revision>
  <dc:subject/>
  <dc:title>Slide 1</dc:title>
</cp:coreProperties>
</file>